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8" descr="alienTitleMaster1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2" descr="alienBulletMaster3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298520" y="6119640"/>
            <a:ext cx="674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b0e39"/>
                </a:solidFill>
                <a:latin typeface="Arial"/>
                <a:ea typeface="Arial"/>
              </a:rPr>
              <a:t>Public Inform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1971360" y="6104880"/>
            <a:ext cx="88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1F7D6-6FF4-4784-AE9D-39E3EF15C32E}" type="slidenum">
              <a:rPr b="1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ruby-lang.org/en/" TargetMode="External"/><Relationship Id="rId2" Type="http://schemas.openxmlformats.org/officeDocument/2006/relationships/hyperlink" Target="http://www.ruby-lang.org/en/" TargetMode="External"/><Relationship Id="rId3" Type="http://schemas.openxmlformats.org/officeDocument/2006/relationships/hyperlink" Target="http://poignantguide.net/ruby/" TargetMode="External"/><Relationship Id="rId4" Type="http://schemas.openxmlformats.org/officeDocument/2006/relationships/hyperlink" Target="http://poignantguide.net/ruby/" TargetMode="External"/><Relationship Id="rId5" Type="http://schemas.openxmlformats.org/officeDocument/2006/relationships/hyperlink" Target="http://poignantguide.net/ruby/" TargetMode="External"/><Relationship Id="rId6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ruby-lang.org/en/downloads/" TargetMode="External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39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</a:t>
            </a:r>
            <a:br>
              <a:rPr sz="3200"/>
            </a:b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Overview</a:t>
            </a:r>
            <a:br>
              <a:rPr sz="3200"/>
            </a:b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ximum programmer delight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w with chunky bacon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00400" y="3714840"/>
            <a:ext cx="27241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esourc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53680" y="1413000"/>
            <a:ext cx="819468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in Ruby Websit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</a:t>
            </a: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2"/>
              </a:rPr>
              <a:t>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ming Ruby: The Pragmatic Programmer’s Gu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Dave Thomas, Chad Fowler, Andy Hu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’s (Poignant) Guide to Rub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4"/>
              </a:rPr>
              <a:t>poignantguide.net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5"/>
              </a:rPr>
              <a:t>/ruby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w/Ruby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Rub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/downloads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a text edito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TE comes with the one-click insta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by Developer Tools for Eclip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tana – Ruby-centric Eclips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popular editors support Ruby synta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rite your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un your code: ruby.exe yourfile.rb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 your code: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RFID API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set of classes and examp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asses inclu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R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Conn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amples cover use of the classes and simple use cas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ed with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-generates html files like Java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Ruby Programming Language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54040" y="1412640"/>
            <a:ext cx="773424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ure ~10 years old, came out of Japa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rpreted (no compilation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tomatic garbage colle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-platfor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exible types (‘Duck’ typing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y readab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nds itself to Domain Specific Langu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aring popularity: Ruby on Rail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Highly Object-Oriented?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verything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s an object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5.times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int "Hi!\n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66880" y="4800600"/>
            <a:ext cx="2895840" cy="990720"/>
          </a:xfrm>
          <a:prstGeom prst="cloudCallout">
            <a:avLst>
              <a:gd name="adj1" fmla="val 123245"/>
              <a:gd name="adj2" fmla="val 1006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o! Pretty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77120" y="2590920"/>
            <a:ext cx="220968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br>
              <a:rPr sz="24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3429000"/>
            <a:ext cx="1219320" cy="838080"/>
          </a:xfrm>
          <a:prstGeom prst="rightArrow">
            <a:avLst>
              <a:gd name="adj1" fmla="val 50000"/>
              <a:gd name="adj2" fmla="val 3637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Nice Featur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weet support for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 handlin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r expression par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anything to do with networking or the we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very rich set of built-in classes and modul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build methods dynamically at run tim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70160" y="46641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Iterators &amp; Block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write a loop that looks sort of like other languages, but why should you when you can do stuff like this?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 = ["dog", "cat", "duck", "moose"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.each do |animal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 animal +"\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9440" y="3733920"/>
            <a:ext cx="942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ose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34120" y="3886200"/>
            <a:ext cx="1218960" cy="838080"/>
          </a:xfrm>
          <a:prstGeom prst="rightArrow">
            <a:avLst>
              <a:gd name="adj1" fmla="val 50000"/>
              <a:gd name="adj2" fmla="val 3636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Variable Nam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pends on variable scop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7600" y="1793880"/>
            <a:ext cx="884412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467320" y="3621240"/>
            <a:ext cx="1959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2895480"/>
            <a:ext cx="762120" cy="621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asses / Attribut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4360" y="961920"/>
            <a:ext cx="33505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Animal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initialize(say="hi"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what_i_say = 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1.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ay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what_i_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=(mysiz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my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my_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390920" y="1066680"/>
            <a:ext cx="384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AMPL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 = Animal.new("meow"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.size = 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i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ay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Duck Typing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f it walks like a duck and it quacks like a duck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98560" y="2422440"/>
            <a:ext cx="4664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 = Shoe.new(“loafer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.size = 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 = Animal.new(“quack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.size = 3.1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 = [duck, comfy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.each do |thing|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 thing.si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2895480"/>
            <a:ext cx="2895480" cy="1981440"/>
          </a:xfrm>
          <a:prstGeom prst="cloudCallout">
            <a:avLst>
              <a:gd name="adj1" fmla="val 23245"/>
              <a:gd name="adj2" fmla="val 12147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either love this or hate it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Ex: The Hash Clas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98800" y="1109520"/>
            <a:ext cx="46479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_section =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ello' =&gt; 'string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larinet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drum' =&gt; 'percussion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oboe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trumpet' =&gt; 'brass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violin' =&gt; 'string'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oboe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cello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bassoon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uce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woodwind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string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20:41:49Z</dcterms:created>
  <dc:creator>David Krull</dc:creator>
  <dc:description/>
  <cp:keywords/>
  <dc:language>en-US</dc:language>
  <cp:lastModifiedBy>David Krull</cp:lastModifiedBy>
  <dcterms:modified xsi:type="dcterms:W3CDTF">2008-10-28T19:26:53Z</dcterms:modified>
  <cp:revision>11</cp:revision>
  <dc:subject/>
  <dc:title>The Alien Ruby RFID API </dc:title>
</cp:coreProperties>
</file>